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99218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E71-5C6C-4AB1-898F-92793C71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81080" y="44942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E2F-A3AA-4A47-B558-2B9FC0E2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136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02C-5FA9-4A6B-B936-45A9194E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092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374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810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4092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8374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9A7-654F-496F-A4B2-D7887287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2655-A197-4884-8267-5A973CEF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1F92-A8BC-43A1-9C41-9BBE8655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AC70-DC57-4695-9A34-32B286AB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AA4C-42D3-4131-A0FE-7A263B3B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7110-08F0-44A4-9534-8BD4D19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980720" y="1676520"/>
            <a:ext cx="536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89F-C093-4DD9-AC15-7E42E8F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711-7FF6-4DDB-94E0-45671E2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A6E-F198-47A7-AB6B-3F85D2FB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136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73B-5F71-43D6-B80B-6D78EF5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EECE-6ECF-451B-8513-66FCCD5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981080" y="44942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97A-9C36-4102-B7EE-0E64470E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6136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88A-1676-4B93-B765-7F9236B5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092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37480" y="27428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9810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092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837480" y="4494240"/>
            <a:ext cx="2312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B6EA-BAD7-4D69-9187-8E51E731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B50-E0E9-47BB-969E-FD6C160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242-CC87-4B21-B4C8-CE4C070C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955-5FD1-44A1-BAC3-CB21D92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80720" y="1676520"/>
            <a:ext cx="536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844-75E6-4A3F-AC30-79493D7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9EF-68DB-4A68-A2FF-011020E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1360" y="44942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7C5-C386-4212-BF0B-A9EB7DD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1360" y="2742840"/>
            <a:ext cx="3504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494240"/>
            <a:ext cx="71820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87E-4EB0-44C1-B202-93A7C02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2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4" marL="2057400" indent="-2286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5" marL="2057400" indent="-2286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6" marL="2057400" indent="-2286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137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82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4137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92640" y="6248520"/>
            <a:ext cx="239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4137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B6A-3550-4546-B353-BBE66E4A9B66}" type="slidenum">
              <a:rPr b="0" lang="en-US" sz="1400" spc="-1" strike="noStrike">
                <a:solidFill>
                  <a:srgbClr val="0a4137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51840" y="546120"/>
            <a:ext cx="2025360" cy="6760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355680" y="380880"/>
            <a:ext cx="1076400" cy="6096240"/>
            <a:chOff x="355680" y="380880"/>
            <a:chExt cx="1076400" cy="6096240"/>
          </a:xfrm>
        </p:grpSpPr>
        <p:sp>
          <p:nvSpPr>
            <p:cNvPr id="7" name=""/>
            <p:cNvSpPr/>
            <p:nvPr/>
          </p:nvSpPr>
          <p:spPr>
            <a:xfrm>
              <a:off x="993600" y="380880"/>
              <a:ext cx="0" cy="6096240"/>
            </a:xfrm>
            <a:prstGeom prst="line">
              <a:avLst/>
            </a:prstGeom>
            <a:ln w="1270080">
              <a:solidFill>
                <a:srgbClr val="bfe6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4137"/>
                </a:solidFill>
                <a:latin typeface="Garamond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55680" y="773280"/>
              <a:ext cx="1076400" cy="21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 flipV="1">
            <a:off x="357120" y="380880"/>
            <a:ext cx="0" cy="609624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10" name=""/>
          <p:cNvSpPr/>
          <p:nvPr/>
        </p:nvSpPr>
        <p:spPr>
          <a:xfrm>
            <a:off x="358920" y="380880"/>
            <a:ext cx="9191520" cy="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358920" y="6477120"/>
            <a:ext cx="9191520" cy="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12" name=""/>
          <p:cNvSpPr/>
          <p:nvPr/>
        </p:nvSpPr>
        <p:spPr>
          <a:xfrm>
            <a:off x="9550440" y="380880"/>
            <a:ext cx="0" cy="609624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80880" y="380880"/>
            <a:ext cx="1076400" cy="6096240"/>
            <a:chOff x="380880" y="380880"/>
            <a:chExt cx="1076400" cy="6096240"/>
          </a:xfrm>
        </p:grpSpPr>
        <p:sp>
          <p:nvSpPr>
            <p:cNvPr id="50" name=""/>
            <p:cNvSpPr/>
            <p:nvPr/>
          </p:nvSpPr>
          <p:spPr>
            <a:xfrm>
              <a:off x="1018800" y="380880"/>
              <a:ext cx="0" cy="6096240"/>
            </a:xfrm>
            <a:prstGeom prst="line">
              <a:avLst/>
            </a:prstGeom>
            <a:ln w="1270080">
              <a:solidFill>
                <a:srgbClr val="bfe6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4137"/>
                </a:solidFill>
                <a:latin typeface="Garamond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80880" y="773280"/>
              <a:ext cx="1076400" cy="21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5680" y="1676160"/>
            <a:ext cx="71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2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18982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4137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435420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4137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1820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413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8A5F-B6AE-4FCE-928D-EFDC7CB30FF8}" type="slidenum">
              <a:rPr b="0" lang="en-US" sz="1400" spc="-1" strike="noStrike">
                <a:solidFill>
                  <a:srgbClr val="0a4137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"/>
          <p:cNvSpPr/>
          <p:nvPr/>
        </p:nvSpPr>
        <p:spPr>
          <a:xfrm>
            <a:off x="382680" y="380880"/>
            <a:ext cx="0" cy="609624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82680" y="380880"/>
            <a:ext cx="9142200" cy="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8" name=""/>
          <p:cNvSpPr/>
          <p:nvPr/>
        </p:nvSpPr>
        <p:spPr>
          <a:xfrm>
            <a:off x="9524880" y="380880"/>
            <a:ext cx="0" cy="609624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6477120"/>
            <a:ext cx="9142200" cy="0"/>
          </a:xfrm>
          <a:prstGeom prst="line">
            <a:avLst/>
          </a:prstGeom>
          <a:ln w="9360">
            <a:solidFill>
              <a:srgbClr val="0a41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619200"/>
            <a:ext cx="2666880" cy="89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39440" y="1341360"/>
            <a:ext cx="7921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d24"/>
                </a:solidFill>
                <a:latin typeface="Garamond"/>
              </a:rPr>
              <a:t>Orientering om etablering af administrative fællesskaber på ungdomsuddannelsesinstitutioner</a:t>
            </a:r>
            <a:br>
              <a:rPr sz="3600"/>
            </a:br>
            <a:br>
              <a:rPr sz="3600"/>
            </a:br>
            <a:r>
              <a:rPr b="1" lang="da-DK" sz="2400" spc="-1" strike="noStrike">
                <a:solidFill>
                  <a:srgbClr val="002d24"/>
                </a:solidFill>
                <a:latin typeface="Garamond"/>
              </a:rPr>
              <a:t>Torsdag den 26. marts 2008</a:t>
            </a:r>
            <a:endParaRPr b="1" lang="en-US" sz="2400" spc="-1" strike="noStrike">
              <a:solidFill>
                <a:srgbClr val="002d2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Effektiviseringspotentiale ved fuld indfasning fordelt på opgavetyper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1080" y="2743200"/>
          <a:ext cx="7182000" cy="3557520"/>
        </p:xfrm>
        <a:graphic>
          <a:graphicData uri="http://schemas.openxmlformats.org/drawingml/2006/table">
            <a:tbl>
              <a:tblPr/>
              <a:tblGrid>
                <a:gridCol w="3187800"/>
                <a:gridCol w="1871640"/>
                <a:gridCol w="2122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Mio. kr. (2008-p/l)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Omkostning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Potentiale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Økonomi og planlægning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66,8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42,4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Løn og personale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99,8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IT og indkøb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58,7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60,2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Bygninger og service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015,1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58,6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Ekstra årlig driftsomkostning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5,2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I alt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740,5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11,7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% af alle opgav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3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% af egnede opgav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8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7220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Specielt vedr. Bygninger og service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1080" y="2421000"/>
            <a:ext cx="718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Opgavetypen Bygninger og service udgør godt halvdelen af effektiviseringspotentiale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Effektiviseringspotentialet vedrører overvejende rengøring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Undervisningsministeriet har udtrykt skepsis i forbindelse med Deloittes 1. analyse ifht. om potentialet vedrører standardisering eller effektivisering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Deloitte har i 2. analyse kvalificeret data og er kommet frem til samme konklusioner vedr. effektiviseringspotentialet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707544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Implementering - medarbejdertilpasninger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28880" y="2637000"/>
          <a:ext cx="7181640" cy="2736720"/>
        </p:xfrm>
        <a:graphic>
          <a:graphicData uri="http://schemas.openxmlformats.org/drawingml/2006/table">
            <a:tbl>
              <a:tblPr/>
              <a:tblGrid>
                <a:gridCol w="5492520"/>
                <a:gridCol w="168912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Årsværksfordeling ved fuld indfasning af administrative fællesskab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Årsværk på institutionerne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.476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Årsværk i de administrative fællesskab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.960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Overskydende årsværk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520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Årsværk i alt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.956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928880" y="5300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a4137"/>
                </a:solidFill>
                <a:latin typeface="Garamond"/>
              </a:rPr>
              <a:t>Flytning mv. af medarbejdere forventes at ske efter virksomhedsoverdragelseslovens bestemmelser.</a:t>
            </a:r>
            <a:endParaRPr b="0" lang="en-US" sz="18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Implementering - proces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De administrative fællesskaber forventes at være fuldt indfasede i 2011. Inden da vil der med inddragelse af repræsentanter for institutionerne ske: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Tilpasning af rammebetingelserne for etablering af fællesskaberne, herunder eventuelle lovændringer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Kvalificering af opgave- og rollefordelingen mellem institution og fællesskab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Lokal design- og implementeringsfase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Disposition: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000160" y="2492280"/>
            <a:ext cx="71820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Analysen af administrative fællesskaber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Baggrund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Modeller for etablering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Effektiviseringspotentiale 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Implementering</a:t>
            </a:r>
            <a:r>
              <a:rPr b="0" lang="da-DK" sz="1800" spc="-1" strike="noStrike">
                <a:solidFill>
                  <a:srgbClr val="0a4137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676160"/>
            <a:ext cx="70754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Administrative fællesskaber - baggrund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Analyse igangsat januar 2007 som opfølgning på debatten om de tidligere amtslige institutioners (gymnasier, SOSU-skoler og VUC) økonomiske rammer til administration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Udvidet til også at omfatte erhvervsskoler med henblik på sammenligningsgrundlag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1. analyse færdiggjort juni 2007. Forelagt regeringen og fulgt op af 2. analyse færdiggjort ultimo 2008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71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Modeller for administrative fællesskaber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Deloitte har som udgangspunkt opstillet 3 modeller for administrative fællesskaber: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Ét nationalt fællesskab omfattende alle opgavetyper og institutioner. 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4-5 regionale fællesskaber omfattende flere opgavetyper og 50-60 institutioner. 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0a4137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Ca. 25 lokale fællesskaber med fri opgaveportefølje og frivillig deltagelse for gennemsnitligt 10-15 institutioner pr. fællesskab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7220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Modeller for administrative fællesskaber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Vurdering: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Model 1 har et effektiviseringspotentiale på 480 mio. kr. årligt, men er problematisk bl.a. pga. EU’s udbuds- og statsstøtteregler. 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Model 2 er anbefalet af Deloitte pga. større langsigtet effektiviseringspotentiale på 387 mio. kr. årligt. Forudsætter dog omfattende central statslig koordinering og styring, som vurderes at være uhensigtsmæssigt ifht. selvejeformen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Model 3 har mindre effektiviseringspotentiale på 310 mio. kr. årligt, men bygger på frivillig deltagelse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7220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d24"/>
                </a:solidFill>
                <a:latin typeface="Garamond"/>
              </a:rPr>
              <a:t>Model for administrative fællesskaber</a:t>
            </a:r>
            <a:endParaRPr b="1" lang="en-US" sz="32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18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Regeringen har tilsluttet sig implementering af model 3: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Institutionerne designer og implementerer selv de administrative fællesskaber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Ingen krav til størrelse eller opgaveindhold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Deltagelse er frivillig. Institutionerne kan derfor vælge helt at stå udenfor og effektivisere de administrative funktioner på anden vis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a4137"/>
                </a:solidFill>
                <a:latin typeface="Garamond"/>
              </a:rPr>
              <a:t>Forankring hos en værtsinstitution.</a:t>
            </a:r>
            <a:endParaRPr b="0" lang="en-US" sz="24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9800" y="1341360"/>
            <a:ext cx="7293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Effektiviseringspotentiale vedr. administrative fællesskaber - metode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2276640"/>
            <a:ext cx="7182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Beregnet på baggrund af spørgeskemaundersøgelse, hvor 68 % af institutionerne har deltaget. Opregnet til landsplan ud fra antallet af årselever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Kvalificeret gennem interviews med en række institutioner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Beregnet som effektiviseringsgevinsten ved, at de mindst effektive institutioner bliver lige så effektive som gennemsnittet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Der er foretaget følsomhedsberegninger for at begrænse usikkerheden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Vedrører udelukkende de opgaver, som er vurderet egnede til at blive varetaget i administrative fællesskaber.</a:t>
            </a:r>
            <a:r>
              <a:rPr b="0" lang="da-DK" sz="2200" spc="-1" strike="noStrike">
                <a:solidFill>
                  <a:srgbClr val="0a4137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a4137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a4137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a4137"/>
                </a:solidFill>
                <a:latin typeface="Garamond"/>
              </a:rPr>
              <a:t>Omkostninger til implementeringsforberedelse, medarbejderændringer, it-transformation og etablering af fællesskaberne er indregnet.</a:t>
            </a:r>
            <a:endParaRPr b="0" lang="en-US" sz="2000" spc="-1" strike="noStrike">
              <a:solidFill>
                <a:srgbClr val="0a4137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676520"/>
            <a:ext cx="536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Effektiviseringspotentialet og etableringsomkostninger mv.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81080" y="2743200"/>
          <a:ext cx="7182000" cy="2846520"/>
        </p:xfrm>
        <a:graphic>
          <a:graphicData uri="http://schemas.openxmlformats.org/drawingml/2006/table">
            <a:tbl>
              <a:tblPr/>
              <a:tblGrid>
                <a:gridCol w="3548160"/>
                <a:gridCol w="863640"/>
                <a:gridCol w="936720"/>
                <a:gridCol w="936360"/>
                <a:gridCol w="8971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Mio. kr. (2008-prisniveau)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Effektiviseringspotentiale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9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273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12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Etableringsomkostning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33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104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67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Overgangsomkostninger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30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I alt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33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65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176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12</a:t>
                      </a:r>
                      <a:endParaRPr b="0" lang="en-US" sz="20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99800" y="1484280"/>
            <a:ext cx="73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2d24"/>
                </a:solidFill>
                <a:latin typeface="Garamond"/>
              </a:rPr>
              <a:t>Effektiviseringspotentialet fordelt på institutionstyper ved fuld indfasning</a:t>
            </a:r>
            <a:endParaRPr b="1" lang="en-US" sz="2800" spc="-1" strike="noStrike">
              <a:solidFill>
                <a:srgbClr val="002d24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4880" y="2637000"/>
          <a:ext cx="5832360" cy="3286080"/>
        </p:xfrm>
        <a:graphic>
          <a:graphicData uri="http://schemas.openxmlformats.org/drawingml/2006/table">
            <a:tbl>
              <a:tblPr/>
              <a:tblGrid>
                <a:gridCol w="3382560"/>
                <a:gridCol w="24498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Mio. kr. (2008-prisniveau)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1368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Handelsskol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Tekniske skol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42,6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Kombinationsskol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71,2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Gymnasi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SOSU-skol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4,0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VUC’er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6,0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Ekstra årlig driftsomkostning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-5,2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5760">
                      <a:solidFill>
                        <a:srgbClr val="0a41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I alt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a4137"/>
                      </a:solidFill>
                    </a:lnL>
                    <a:lnR w="576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a4137"/>
                          </a:solidFill>
                          <a:latin typeface="Garamond"/>
                        </a:rPr>
                        <a:t>311,7</a:t>
                      </a:r>
                      <a:endParaRPr b="0" lang="en-US" sz="1800" spc="-1" strike="noStrike">
                        <a:solidFill>
                          <a:srgbClr val="0a4137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a4137"/>
                      </a:solidFill>
                    </a:lnL>
                    <a:lnR w="13680">
                      <a:solidFill>
                        <a:srgbClr val="0a4137"/>
                      </a:solidFill>
                    </a:lnR>
                    <a:lnT w="5760">
                      <a:solidFill>
                        <a:srgbClr val="0a4137"/>
                      </a:solidFill>
                    </a:lnT>
                    <a:lnB w="13680">
                      <a:solidFill>
                        <a:srgbClr val="0a41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10:53Z</dcterms:created>
  <dc:creator>Kontrpunkt</dc:creator>
  <dc:description/>
  <dc:language>en-US</dc:language>
  <cp:lastModifiedBy>test</cp:lastModifiedBy>
  <dcterms:modified xsi:type="dcterms:W3CDTF">2008-04-02T10:37:03Z</dcterms:modified>
  <cp:revision>93</cp:revision>
  <dc:subject/>
  <dc:title>Dias nummer 1</dc:title>
</cp:coreProperties>
</file>